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064-972F-42C3-9A2E-9125A0CA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7B9-F8FB-4105-9A71-25AA8D60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34D-E917-4BD7-8472-0353618D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8F24-F92B-4A08-9901-1C90A6E6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5C1-99BD-4E35-8BFB-32A4F179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634-31C4-4051-B465-06B3EC0D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0B8-369D-4537-9BA8-E82942BF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771-2BED-4805-9D08-0030D226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CA7-B0E2-4431-935B-BE08DBA7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C6E-F586-438C-8AC1-A2482FF2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245-4321-427F-996C-9D4215FC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073-0DDF-493A-B34D-AF2798CD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1BA0-0A6A-4536-92ED-1CE4D908F79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Charge of the Light Brig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lfred, Lord Tenny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341360"/>
            <a:ext cx="2241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ight brig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aval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ea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ismay’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ab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onder’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ss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under’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11280" y="1341360"/>
            <a:ext cx="6275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any of soldiers using light weapon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ldiers on horse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bout 3 m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p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valry s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mired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avy artillery/gu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ople from Russia, Ukraine and Siberia famed for their horseman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rn a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41300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actyl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actylic di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59280" y="1413000"/>
            <a:ext cx="56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ythm and pace of a po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ne stressed syllable followed by two unstressed syllables in poetic me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wo feet in a line of poetry, with each foot consisting of a dactyl (see abo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lliter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yperbo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naph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nomatopoe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hetorical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ated use of the same consonant in a phrase or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ggeration for dramatic or emphatic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tition of word or phrase at the beginning of successive li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ds that sound like their mean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question posed without any expectation of getting an ans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tis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ropaga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enso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84000" y="1600200"/>
            <a:ext cx="64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king one side in a conflict or arg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ne-sided, bi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iased or misleading information put out by governments to publicise or promote a political cause or point of vie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ficial examination of reports, texts, films, etc., possibly resulting in suppression of parts considered unaccep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7:00:11Z</dcterms:modified>
  <cp:revision>39</cp:revision>
  <dc:subject/>
  <dc:title>La Belle Dame Sans Merci</dc:title>
</cp:coreProperties>
</file>